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AF3-139C-4DA1-811C-CE303986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F20-D1B2-4E38-9D77-E707A9FA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8F0-EFE4-4420-B2F6-7545397C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8BA-0586-4418-8DAA-11AB1425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F66-4B01-4516-998F-E08C8C80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EF7-DFF1-4BA4-8809-75442CF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6B5-D1D6-456C-B14B-D5D0C47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E39-8A1C-47DA-B701-8C0B42B7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8BE-27AE-4B8C-B54C-CC83EC4A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80A-A65B-494C-9AAE-68E1BD2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B5C-7B94-4A1B-BED3-DB0572A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C7E-DE8F-425E-A736-0674D39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DD7-DD6C-429A-8162-0D7D4F7A9C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1557000"/>
            <a:ext cx="4969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5 simple rules inside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ittle einsteins theme song.mp3" descr=""/>
          <p:cNvPicPr/>
          <p:nvPr/>
        </p:nvPicPr>
        <p:blipFill>
          <a:blip r:embed="rId2"/>
          <a:stretch/>
        </p:blipFill>
        <p:spPr>
          <a:xfrm>
            <a:off x="4853160" y="4941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instill to the children hoe to behave inside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make the children realize that there are certain rules to be fo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able to impose order and stability in the classroom and among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RUL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COME TO SCHOOL ON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1500" spc="-1" strike="noStrike">
                <a:solidFill>
                  <a:srgbClr val="ffffff"/>
                </a:solidFill>
                <a:latin typeface="Comic Sans MS"/>
              </a:rPr>
              <a:t>Rule 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No running and no shou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5861160" y="3573360"/>
            <a:ext cx="237636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4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Rule 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en in need of help, ask polite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2373480" cy="2423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8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Rule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ways tell the tru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527640" cy="305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21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Rule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spect one ano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217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24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Ignorance of the Law excuses no one.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ww.brainyquote.co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ww.google.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fet</cp:lastModifiedBy>
  <dcterms:modified xsi:type="dcterms:W3CDTF">2012-10-01T15:36:33Z</dcterms:modified>
  <cp:revision>39</cp:revision>
  <dc:subject/>
  <dc:title>Diapositiva 1</dc:title>
</cp:coreProperties>
</file>